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F92-439A-4B2E-8D87-C2A6C522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45D-3A2A-4662-82B8-9F7FDC7A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A8176-B389-4926-8B6D-A099D588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2156D-3BD6-48BE-8FA7-FD24FBDC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60DBB-C336-478D-AB56-F4279542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D6129-5129-491A-B0C7-CF937924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7357E-1BD1-4F46-81BB-A2B8CC75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B8E12-3EB1-4651-BA4E-59BDAED4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42BA8-CF63-496A-846C-6C1CAC7F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0A54F-CD35-4B16-BE4D-1BF4EEC0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52964-1DA8-4963-AEE6-13AF1013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38025-7D79-4DD4-ACAD-FB5C4033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ED7-C31E-41FF-ABBF-4E9FBC3B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43D69-9E0E-4218-93BA-1D2B4F0F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655F2-F473-41C7-8B60-54EDEF2A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6BFD3-8906-4735-912F-79740220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18D16-B6BD-489B-B721-2CBED51D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3690D-FAB8-4409-B1E6-D08347EF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799C0-ABB4-442A-A1F7-D3753002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E8210-A56F-40CE-AE63-322C4BC4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B11D4-2090-4FD8-9E4B-B2139153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BED06-2004-44AB-8489-9827438F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11675-B27A-452B-941E-6ADB2E70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B4F-CF11-48A4-A4F6-8FB0F7E7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F31AB-11D6-4363-A032-F9E3E719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F7179-0BC3-46CA-87E3-E85D7F8D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1FB01-A9E4-4A8A-A8AF-CD029C76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F5E3A-5555-4100-958E-BF938BAA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9E369-00E6-4A7D-A151-3F8EB168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72970-5756-4874-8EF0-E360EFC0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E2DCC-BC2D-41D9-9CAE-5E17378A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883C3-C8AE-4743-A41F-0448E2B2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C7095-A64C-4CEC-A67D-D403C9C4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A05A9-6EBF-4CFA-947E-C07D44EE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AC01-3553-4083-9D8C-42AECB61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12590-3766-4209-953C-6FB9CA7B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EEAAD-AC2C-4009-8B25-F58B7A45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1DB70-B967-46E8-A3DE-7FDDCA2E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FBE61-9EB2-4F3F-8144-E1CB75B9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DD909-4AA4-40F1-8750-8E1FA51D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DE90C-77B0-4136-82EA-537A93AF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A9CB0-C333-4724-BD18-1C1D9B7E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DE1B4-721B-4491-A224-EE3F7FA5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44BEE-BAF4-47FD-9305-638C2622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471F4-6CEB-4505-9BCF-06ED3CE6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0EB1-4C65-4D5D-A0D1-D26B5ED6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1D671-1649-4268-BCEA-17890C6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4AEA5-F813-4E52-BE4C-E29E9A20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314D7-FEED-49FA-96EE-299ED60C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5336A-6EB8-4ABD-B30C-0CF11A68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315E2-B976-4BC2-B59C-523B97B6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478B-6B70-453D-A553-2C6624D6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BB25-A499-49CC-8175-98D2076F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DBE3-7D1A-4846-97C2-B18D740F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44E3-5FC9-4C57-91C1-33DB651E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14C8-9282-43CB-BD9A-A99C7A32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EB6-83F3-4EE0-918F-B85D7187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5F2C-8CDA-4E5D-8EBF-96A96343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D7B9-8FA9-4BA1-BC92-A4FE637B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F654-9AFA-4E77-AE27-46FA60AF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ACB7-D0DA-4F7A-9CE2-58CA0FFA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E25E-9E30-4D88-8317-A8951078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59F3-1193-4F45-AE67-40A3CCEF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1788-DBD1-4C81-9600-B9ABBCBA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8D154-2478-40B0-9E27-DC788574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F0826-6B84-4B6F-80FB-B3B98452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08857-6FEB-4F97-BB53-3F4ACDEE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C1E-B5A9-423D-8FE5-559C3004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7794-DF72-4D06-B0CC-5E327DEA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947D-13F8-46C7-BB39-4249F08C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271A-23A8-48DA-BFCD-454740A2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F9B45-FEF7-4628-8972-8A586226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91386-87A5-4FDB-AD25-E0E56D76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AB02-AFD1-4735-9E7F-4C6830D9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A29F8-C392-419C-8922-2A6AFE64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9A23-A59C-41FA-9B7A-14E64F87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7860-99E4-49FB-8AB6-3FFFA06B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95E2-DF2D-4819-8736-3D74C21B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488-F306-422D-B751-7C5C5676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D4983-D0A9-4D2A-9DB7-D5CFC6D3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B056C-08FE-44BD-8D80-696EC59E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73195-577A-4E37-B0DA-BEA805FC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A6486-2B91-453C-BDDE-D1F7B54C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7BC89-BE59-4EDE-A09F-926E2375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8C5D-EE03-48CA-B656-E84A94FE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447F1-3922-46E0-AFFC-BC1F5A87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D75E2-117F-4F16-A848-F592C6D5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B7D83-0167-41D2-99E9-C0C6E52D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1D3D4-14D0-4C58-8BD8-257BD566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1F5-4C69-458B-B63C-629B15A5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93F74-2940-4E38-B9B7-D47723E9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17524-A790-4A09-8E12-6BC69ABF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0F45E-0A40-4CFD-A8D2-E18AE9EB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ABA25-C6F5-4896-BEA2-9724575C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31D6B-8EF2-4646-9C7A-AA73CD37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68C8-1E19-4E62-973F-37662621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752B7-2D46-4F67-AB4E-38E922F4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C0E52-6697-4013-9A33-1D720CC9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1C32F-C404-4524-A345-1DCF4275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3B7BA-D7E9-4444-922C-89408819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B08-C431-4F5D-91CA-0A0EE450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B5A41-48AF-4FE6-AC68-7574DD69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F0AA2-EC31-410C-B563-CBD79CDF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23751-07D3-41A6-8C15-C84FA171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0A2CA-9E29-4070-94D8-A6AFAC7F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74111-83C6-47B8-BEC5-30DCE368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01FCA-68C0-41F3-A73E-13E74001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A312B-B5F7-4358-A9B0-88F6E792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74715-4C77-4599-94AB-FAC4D437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EC812-C89A-4037-8C23-182D93A8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728E1-DF31-4F95-89A1-EB425E82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9BC-8B3F-4B44-9293-B9E81AAB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E6A93-6CAF-43A5-89BA-0113E27F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164C7-E1CE-4A8B-B41B-EFBFCEA4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32318-A636-4954-A63D-9484844D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1C3F0-2529-4AD4-8461-B2473CA4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5042A-1C8E-402C-8F1E-8220A080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79554-973E-413B-92C5-E4F549C9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8C8E5-3251-435C-8A83-B7537B2A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DCA2C-CC72-4B22-83DC-2EC7D9F8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430E5-33F9-437A-936F-5B13DDB2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1CD4D-1A92-4BB6-8D62-8941455D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AF7-0FE8-4AF0-B101-21AC546E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593E1-7CE7-480D-A960-7EB0E8F9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D4C6A-6254-44A6-AFAD-344B2C37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1481E-319B-40BC-BFCA-0C1B33E2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59674-FACF-480B-8CB6-C0BE66EF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87ECF-C0AF-49D6-A83D-5B50DEC1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43727-5234-4B88-84CE-F5AC005F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A7D67-8500-47BF-8CE4-2D754DBE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736A8-F5CE-4082-B4CA-BF2DC2D0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37FF2-40DB-46CB-9CE7-3DB29D6A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B82B4-EA14-4FC4-B215-098A974B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03F-401E-4826-8979-7C9D2386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F8FBB-536C-4C5D-A00A-DC6AEEA4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C9840-1B85-46FB-8889-48D78A50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045CA-0D49-4C88-802B-2A1D9D00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5D0C6-48F1-4A9D-B4B3-6356330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FFC97-6E1A-4D3A-9828-90112F3A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03831-0054-4E50-86A3-6432653A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A6DF5-231C-46C0-8CD3-DEC8E04A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5ACA2-2808-4EE8-B1D5-A1877A5D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18FF4-E403-4FCD-A673-B60B47D4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7EC64-2E95-4B10-BE4D-B3B2A84D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DB7B-DF5F-4324-B1DD-0E899A761D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470C-D822-4C5B-B11B-1CF970D539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3522-B459-4A5B-AB85-E365D774EC7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401E-EC69-4FE7-B43F-5F134C2CE8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D921-FD43-480F-A80A-07CAC33D806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0D98-AD6B-4115-AD95-92F96007E43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7C56-6C04-4259-87DC-EE271085AC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5AC2-DE85-4AEA-970E-AEABD6727E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93E2-5AB2-4DF4-A3EB-FC3F3D34C7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D02F-64F6-4874-A9CD-30162DD4E2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B826-D8D9-4663-81E3-F5A5A976B8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012C-3EFA-4864-A1B2-35AF217D87C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07 Nemeškaj, Pán vol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eškaj, Pán vol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sebe všetkých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uje ťa vrúc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čuj jeho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ateľstvo ti chý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ítiš, že si sám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Ťa uisťuje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eťa, rád ťa mám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die nad tebou ver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le,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va silu k prác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ný tiež 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reky a smútok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žeň spredo dvie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na teba mysl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oj sa, len 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ácu v svätom diel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pre teba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užbu lásky blížny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ám požeh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ť o jeho lásk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de roznáš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bude vždy s teb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na to pamät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Ti domov chy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esta je v ňom d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žeš tam žiť več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len ako h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voj pokoj dá 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rahý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ho prijmeš vier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nájde ci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13:35Z</dcterms:modified>
  <cp:revision>21</cp:revision>
  <dc:subject/>
  <dc:title>Je veľký náš Pán, on slávy je Kráľ Nech do všetkých strán  spev vrúcnych znie chvál.</dc:title>
</cp:coreProperties>
</file>